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CDD-516A-4112-AEC3-CA659E35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BB42-FB2B-472F-9009-44BE9F4FF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A181-C00B-4BB6-AB5B-A4975C9A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A64E-0FF8-4321-A5C3-33BAFA84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4FA3-6A91-4257-91D4-D6C8212A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2FCD-7350-4C6B-8DF6-4B4C499B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A84C-75ED-451E-BFF1-50D2475D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25BE-94D4-40A0-B2D8-2BE19B86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A62-B51A-4564-9936-7B5B5973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83F0-D441-47F3-9DE9-A1C946B8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947-CDD5-4CB3-AD68-608BBD7D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CD7-FC4C-47F0-BBDA-E56D26D3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9D20-C6AB-4CCB-B48F-F50B11A1FA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3124080"/>
            <a:ext cx="58672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D Java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5335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114300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1828800"/>
            <a:ext cx="2982960" cy="53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D REST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6400" y="5335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1320" y="114300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3623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5257800"/>
            <a:ext cx="762120" cy="99072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81080" y="396252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867280" y="4267080"/>
            <a:ext cx="1752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O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781680" y="36576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3600" y="6095880"/>
            <a:ext cx="609480" cy="45720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o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086600" y="6095880"/>
            <a:ext cx="609480" cy="45720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ow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48520" y="472428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54864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3124080"/>
            <a:ext cx="10666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2R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533520"/>
            <a:ext cx="9144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m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1143000"/>
            <a:ext cx="0" cy="19810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3733920"/>
            <a:ext cx="914400" cy="16761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54280" y="-31680"/>
            <a:ext cx="186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OBD 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Typewriter"/>
              </a:rPr>
              <a:t>March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81680" y="50292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WL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153280" y="4191120"/>
            <a:ext cx="533520" cy="609480"/>
          </a:xfrm>
          <a:prstGeom prst="diamond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r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b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w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0" idx="3"/>
            <a:endCxn id="62" idx="1"/>
          </p:cNvCxnSpPr>
          <p:nvPr/>
        </p:nvCxnSpPr>
        <p:spPr>
          <a:xfrm>
            <a:off x="7620120" y="4495680"/>
            <a:ext cx="53352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4" name=""/>
          <p:cNvCxnSpPr>
            <a:stCxn id="61" idx="3"/>
            <a:endCxn id="62" idx="2"/>
          </p:cNvCxnSpPr>
          <p:nvPr/>
        </p:nvCxnSpPr>
        <p:spPr>
          <a:xfrm flipV="1">
            <a:off x="8153280" y="4800600"/>
            <a:ext cx="267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546840" y="1828800"/>
            <a:ext cx="105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SPARQ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over 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69200" y="1295280"/>
            <a:ext cx="5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"/>
              </a:rPr>
              <a:t>htt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3505320"/>
            <a:ext cx="1752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DSQ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133720" y="5638680"/>
            <a:ext cx="761760" cy="99072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828800" y="5486400"/>
            <a:ext cx="762120" cy="99072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3581280"/>
            <a:ext cx="58676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D Java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5335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52680" y="11430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286000"/>
            <a:ext cx="2982960" cy="53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D REST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533520"/>
            <a:ext cx="6858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91320" y="114300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2819520"/>
            <a:ext cx="0" cy="761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5257800"/>
            <a:ext cx="762120" cy="99072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OB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Q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4114800"/>
            <a:ext cx="0" cy="1219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5320" y="4724280"/>
            <a:ext cx="2057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Jena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4114800"/>
            <a:ext cx="0" cy="609480"/>
          </a:xfrm>
          <a:prstGeom prst="line">
            <a:avLst/>
          </a:prstGeom>
          <a:ln w="381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5638680"/>
            <a:ext cx="1447920" cy="9144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riples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518148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4724280"/>
            <a:ext cx="17528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BO 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81680" y="411480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6095880"/>
            <a:ext cx="609480" cy="45720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ob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86600" y="6095880"/>
            <a:ext cx="609480" cy="457200"/>
          </a:xfrm>
          <a:prstGeom prst="foldedCorner">
            <a:avLst>
              <a:gd name="adj" fmla="val 125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ow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51814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5181480"/>
            <a:ext cx="0" cy="9144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62320" y="4114800"/>
            <a:ext cx="0" cy="1371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1148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24840" y="426708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"/>
              </a:rPr>
              <a:t>Q2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3581280"/>
            <a:ext cx="106704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2R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533520"/>
            <a:ext cx="914400" cy="60948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sem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114300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4191120"/>
            <a:ext cx="685800" cy="12189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22:45:09Z</dcterms:created>
  <dc:creator>Chris Mungall</dc:creator>
  <dc:description/>
  <dc:language>en-US</dc:language>
  <cp:lastModifiedBy>Chris Mungall</cp:lastModifiedBy>
  <dcterms:modified xsi:type="dcterms:W3CDTF">2008-03-18T21:26:22Z</dcterms:modified>
  <cp:revision>39</cp:revision>
  <dc:subject/>
  <dc:title>The NCBO Open Biomedical Ontology Database</dc:title>
</cp:coreProperties>
</file>